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9DA82-50A2-4050-A10C-2AF660084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1E4F7-76F6-4205-9BCE-E1E8ABD2B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76595-A9BD-4BA5-885F-E7DD8C2FB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A5312-DA86-4EC6-B637-C4653A612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DA086-99DA-4C50-A8D4-18F514331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2E26A-5359-44BB-922E-15DC73547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73AB6-5FC1-4206-B79C-7514C5889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B3877-F3CB-45AF-B4AF-59D1E98A1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F7DC7-797B-42B3-8F51-4AAC857EC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B1E83-740A-4F97-AB8F-E2E877145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D4E7C-A594-48B2-8730-FA6DA13D9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7755B-081A-4974-9A20-8CA511F7B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0BE91-05F8-4420-A006-777E685B8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4D7C2-FE12-46EF-ABCE-032C70669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B211F-0050-479B-A847-A911D1D7B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900BE-1EF9-400D-8559-31C7DBC54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7E14E-FFAE-41C7-BED3-217812FA98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596C80-4B46-436F-AC63-C086459A4E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91EEB4-FF3E-42CA-B5DD-83B716053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9E710-3C94-4FD6-B857-037A1EDD04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3A50F2-3911-4B3A-B021-EBAA00136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FC64CB-CBC8-4E0B-AD5C-C676D8D974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34867-9D08-486E-B10D-BF9C38AC3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BEC37B-2E14-4487-968B-014F4B5D97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EF2F4-1732-45AC-92C4-92FFA30F6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C6E87-8273-4B02-A554-10DBD2A070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F382C-4C9C-4505-BFC1-4E272A473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91F1B3-C412-477F-91E8-AC0D3E5625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5459DB-E0E0-4B18-BB7B-3E0BA9E311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34C13D-436B-418A-BFE2-CF665E30DE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924348-3848-4127-BEA7-AF76365E48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D7C518-DC28-4AF5-BABD-A879441B65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B2A7C2-02D9-4CA9-BDAD-9B07DC0174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97803-B604-43C4-A41C-AD6D11093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52FC37-C0AC-43AF-89CE-ADB3D359F3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B50035-5933-4E18-A948-6256B2CC39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341A8E-046C-462B-984E-5D3E9E423D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2B3F9B-9AFF-4615-BDB4-491A2DE51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5D4FE-BDA8-444A-97AE-B2879BDB0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4464E-43DB-476B-8BA8-E4DA7C5264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0B790A-5CE3-467A-94BE-E6AD0E8D4C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217FC2-D8B8-4DE4-B219-6D421BB4A4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26347A-CE87-4AEA-87A5-058BA5E10C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6A6A3F-8DB5-487A-934D-18C6B7AAE0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7F4BC-FCE2-462F-A8F1-49B250B6A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08371B-AE51-4850-A72B-E0BE8D529A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1F3D3F-B1EE-41EE-BDC3-F5577E6A16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2AEC7A-08DF-4409-B753-57A0C4B246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E9B49F-FB1E-4908-A3D8-6806A85F12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61F07D-483B-4CB2-90C3-D9467002C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A55C3A-30EF-4655-9FF6-B96084EB08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1B8A0-5BD1-4BE3-904D-55796997C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9D7F9-F6EA-4D57-84FB-6A641DBD4C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5A65A4-B9D9-46AB-9D80-8E3E2545A9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E2A4FA-9543-426E-B57C-79B34FEA81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76268-60FC-40BE-B80B-E23EC71A8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4F739B-FEC4-4609-82E1-F89409E550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BD65-7167-424D-BB15-4CD88660F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3B353-595D-41A5-8D26-37EFD8D73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2CDE9-F501-4F3D-A086-C23C24E39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1ACD-4795-4C3F-AEB2-2CF7C74C15A0}"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7C92-402A-45DF-B0BE-33CB2FFBE19E}"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BA36-C08D-4822-9D92-0062BDC97455}"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E035-C3CE-47E6-8032-FA681497E45F}"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1108-68E7-4FDA-97B8-64D2F7BD3E87}"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176640" y="530280"/>
            <a:ext cx="5576760" cy="2878200"/>
          </a:xfrm>
          <a:prstGeom prst="rect">
            <a:avLst/>
          </a:prstGeom>
          <a:ln w="0">
            <a:noFill/>
          </a:ln>
        </p:spPr>
      </p:pic>
      <p:pic>
        <p:nvPicPr>
          <p:cNvPr id="221" name="Picture 2" descr="C:\Users\J Barnes\AppData\Local\Microsoft\Windows\Temporary Internet Files\Content.IE5\VMER7TAP\MPj04393820000[1].jpg"/>
          <p:cNvPicPr/>
          <p:nvPr/>
        </p:nvPicPr>
        <p:blipFill>
          <a:blip r:embed="rId2"/>
          <a:stretch/>
        </p:blipFill>
        <p:spPr>
          <a:xfrm>
            <a:off x="4038480" y="4114800"/>
            <a:ext cx="2982960" cy="209088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244440" y="291960"/>
            <a:ext cx="7461360" cy="1176480"/>
          </a:xfrm>
          <a:prstGeom prst="rect">
            <a:avLst/>
          </a:prstGeom>
          <a:ln w="0">
            <a:noFill/>
          </a:ln>
        </p:spPr>
      </p:pic>
      <p:pic>
        <p:nvPicPr>
          <p:cNvPr id="223" name="" descr=""/>
          <p:cNvPicPr/>
          <p:nvPr/>
        </p:nvPicPr>
        <p:blipFill>
          <a:blip r:embed="rId2"/>
          <a:stretch/>
        </p:blipFill>
        <p:spPr>
          <a:xfrm>
            <a:off x="457200" y="1609200"/>
            <a:ext cx="7238880" cy="48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244440" y="291960"/>
            <a:ext cx="7461360" cy="1176480"/>
          </a:xfrm>
          <a:prstGeom prst="rect">
            <a:avLst/>
          </a:prstGeom>
          <a:ln w="0">
            <a:noFill/>
          </a:ln>
        </p:spPr>
      </p:pic>
      <p:pic>
        <p:nvPicPr>
          <p:cNvPr id="225" name="Content Placeholder 2" descr=""/>
          <p:cNvPicPr/>
          <p:nvPr/>
        </p:nvPicPr>
        <p:blipFill>
          <a:blip r:embed="rId2"/>
          <a:stretch/>
        </p:blipFill>
        <p:spPr>
          <a:xfrm>
            <a:off x="414360" y="1554120"/>
            <a:ext cx="7291440" cy="490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44440" y="291960"/>
            <a:ext cx="7461360" cy="1176480"/>
          </a:xfrm>
          <a:prstGeom prst="rect">
            <a:avLst/>
          </a:prstGeom>
          <a:ln w="0">
            <a:noFill/>
          </a:ln>
        </p:spPr>
      </p:pic>
      <p:sp>
        <p:nvSpPr>
          <p:cNvPr id="227"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iddle</a:t>
            </a:r>
            <a:endParaRPr b="0" lang="en-US" sz="22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Give basic facts, figures and examples to support the subject. </a:t>
            </a:r>
            <a:endParaRPr b="0" lang="en-US" sz="22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This takes 1 or more separate paragraphs.</a:t>
            </a:r>
            <a:endParaRPr b="0" lang="en-US" sz="22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c6c6c"/>
                </a:solidFill>
                <a:latin typeface="Trebuchet MS"/>
              </a:rPr>
              <a:t>     “</a:t>
            </a:r>
            <a:r>
              <a:rPr b="0" i="1" lang="en-US" sz="1600" spc="-1" strike="noStrike">
                <a:solidFill>
                  <a:srgbClr val="6c6c6c"/>
                </a:solidFill>
                <a:latin typeface="Trebuchet MS"/>
              </a:rPr>
              <a:t>Salt is a mineral. It comes from the rocks in the ocean. As the waves, tides, and currents beat on the rocks, salt goes into the water. The salt that is in the ocean is the same kind of salt you put on your popcorn and french fries.</a:t>
            </a:r>
            <a:endParaRPr b="0" lang="en-US" sz="1600" spc="-1" strike="noStrike">
              <a:solidFill>
                <a:srgbClr val="6c6c6c"/>
              </a:solidFill>
              <a:latin typeface="Trebuchet MS"/>
            </a:endParaRPr>
          </a:p>
          <a:p>
            <a:pPr lvl="1" marL="52056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c6c6c"/>
                </a:solidFill>
                <a:latin typeface="Trebuchet MS"/>
              </a:rPr>
              <a:t>	</a:t>
            </a:r>
            <a:r>
              <a:rPr b="0" i="1" lang="en-US" sz="1600" spc="-1" strike="noStrike">
                <a:solidFill>
                  <a:srgbClr val="6c6c6c"/>
                </a:solidFill>
                <a:latin typeface="Trebuchet MS"/>
              </a:rPr>
              <a:t>     </a:t>
            </a:r>
            <a:r>
              <a:rPr b="0" i="1" lang="en-US" sz="1600" spc="-1" strike="noStrike">
                <a:solidFill>
                  <a:srgbClr val="6c6c6c"/>
                </a:solidFill>
                <a:latin typeface="Trebuchet MS"/>
              </a:rPr>
              <a:t>The salty water of the ocean is home to lots of fish. Some of the best fish for food are cod, tuna, shark, and sea bass. Crustaceans like crab, lobster, and shrimp are also favorite sea foods. </a:t>
            </a:r>
            <a:endParaRPr b="0" lang="en-US" sz="1600" spc="-1" strike="noStrike">
              <a:solidFill>
                <a:srgbClr val="6c6c6c"/>
              </a:solidFill>
              <a:latin typeface="Trebuchet MS"/>
            </a:endParaRPr>
          </a:p>
          <a:p>
            <a:pPr lvl="1" marL="52056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c6c6c"/>
                </a:solidFill>
                <a:latin typeface="Trebuchet MS"/>
              </a:rPr>
              <a:t>        </a:t>
            </a:r>
            <a:r>
              <a:rPr b="0" i="1" lang="en-US" sz="1600" spc="-1" strike="noStrike">
                <a:solidFill>
                  <a:srgbClr val="6c6c6c"/>
                </a:solidFill>
                <a:latin typeface="Trebuchet MS"/>
              </a:rPr>
              <a:t>Did you know that you have probably eaten seaweed? Different kinds of ice cream and hot fudge have seaweed in them. It makes them smooth. Some people also eat seaweed as a vegetable. IT can be served with rice or in stir fried foods.”</a:t>
            </a:r>
            <a:endParaRPr b="0" lang="en-US" sz="1600" spc="-1" strike="noStrike">
              <a:solidFill>
                <a:srgbClr val="6c6c6c"/>
              </a:solidFill>
              <a:latin typeface="Trebuchet MS"/>
            </a:endParaRPr>
          </a:p>
          <a:p>
            <a:pPr lvl="1" marL="52056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c6c6c"/>
                </a:solidFill>
                <a:latin typeface="Trebuchet MS"/>
              </a:rPr>
              <a:t>	</a:t>
            </a:r>
            <a:r>
              <a:rPr b="0" i="1" lang="en-US" sz="1600" spc="-1" strike="noStrike">
                <a:solidFill>
                  <a:srgbClr val="6c6c6c"/>
                </a:solidFill>
                <a:latin typeface="Trebuchet MS"/>
              </a:rPr>
              <a:t>	</a:t>
            </a:r>
            <a:r>
              <a:rPr b="0" i="1" lang="en-US" sz="1600" spc="-1" strike="noStrike">
                <a:solidFill>
                  <a:srgbClr val="6c6c6c"/>
                </a:solidFill>
                <a:latin typeface="Trebuchet MS"/>
              </a:rPr>
              <a:t>	</a:t>
            </a:r>
            <a:r>
              <a:rPr b="0" i="1" lang="en-US" sz="1600" spc="-1" strike="noStrike">
                <a:solidFill>
                  <a:srgbClr val="6c6c6c"/>
                </a:solidFill>
                <a:latin typeface="Trebuchet MS"/>
              </a:rPr>
              <a:t>From “Food from the Ocean” by Keesha Brooks</a:t>
            </a:r>
            <a:endParaRPr b="0" lang="en-US" sz="1600" spc="-1" strike="noStrike">
              <a:solidFill>
                <a:srgbClr val="6c6c6c"/>
              </a:solidFill>
              <a:latin typeface="Trebuchet MS"/>
            </a:endParaRPr>
          </a:p>
          <a:p>
            <a:pPr lvl="1" marL="52056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44440" y="291960"/>
            <a:ext cx="7461360" cy="1176480"/>
          </a:xfrm>
          <a:prstGeom prst="rect">
            <a:avLst/>
          </a:prstGeom>
          <a:ln w="0">
            <a:noFill/>
          </a:ln>
        </p:spPr>
      </p:pic>
      <p:pic>
        <p:nvPicPr>
          <p:cNvPr id="229" name="Content Placeholder 2" descr=""/>
          <p:cNvPicPr/>
          <p:nvPr/>
        </p:nvPicPr>
        <p:blipFill>
          <a:blip r:embed="rId2"/>
          <a:stretch/>
        </p:blipFill>
        <p:spPr>
          <a:xfrm>
            <a:off x="414360" y="1554120"/>
            <a:ext cx="7364520" cy="490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t’s time to start draftin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gin your first draft with a good beginning that tells your subjec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n write 3 more paragraphs with the different supports for your subjec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nd your draft with summarizing the main point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14:25:19Z</dcterms:created>
  <dc:creator>J Barnes</dc:creator>
  <dc:description/>
  <dc:language>en-US</dc:language>
  <cp:lastModifiedBy>J Barnes</cp:lastModifiedBy>
  <dcterms:modified xsi:type="dcterms:W3CDTF">2008-11-05T19:51:18Z</dcterms:modified>
  <cp:revision>2</cp:revision>
  <dc:subject/>
  <dc:title>Expository essays first draft</dc:title>
</cp:coreProperties>
</file>